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5A2-2415-4A2E-8F52-7C8E079E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761-22A0-453D-A06E-1F62E9EB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0FA-BA2A-49FB-B22F-846B0C67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83A-E230-46FE-AD8C-82AC6D34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DEA-BEA4-485B-BF41-F52F0247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2D4-8ED7-4745-A5E9-4C442DF4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912-1508-4C79-A961-FF6BBDAF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D51-398E-460F-8E2D-EEF3D664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35A-AB68-4916-83A1-97755D32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8AF-91DE-41C5-9AE4-20C7D04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B94-2BD4-4160-80CE-0B75C9A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7DA-7C37-4100-9CF8-314A61C8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2DE7-125B-413B-96B3-6C732356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54936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ملكة العربية السعودية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إدارة التربية والتعليم بمحافظة ........... </a:t>
            </a:r>
            <a:br>
              <a:rPr sz="3200"/>
            </a:b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مدرسة  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"/>
              </a:rPr>
              <a:t>تنفيذ مركز مصادر التعل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56536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رحبا بكم في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MCS Jeddah S_U shadow."/>
              </a:rPr>
              <a:t>مسابقة ( ملتقى الضاد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MCS Jeddah S_U shadow."/>
              <a:ea typeface="MCS Jeddah S_U shadow.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6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0480"/>
            <a:ext cx="777384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- هو بخار الماء الكثيف</a:t>
            </a:r>
            <a:br>
              <a:rPr sz="6000"/>
            </a:b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و يغشى الأرض كالدخان ؟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3300"/>
                </a:solidFill>
                <a:latin typeface="Arial"/>
              </a:rPr>
              <a:t>الضبا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هي وظيفة القلب الأساسية في الجسم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3300"/>
                </a:solidFill>
                <a:latin typeface="Arial"/>
              </a:rPr>
              <a:t>ضــخ الـدم</a:t>
            </a:r>
            <a:r>
              <a:rPr b="0" lang="ar-SA" sz="1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ما هي السورة التي سميت باسم وقت من أوقات الزمن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ح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العملية الأساسية في الحساب و الجبر ؟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ــر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ينفذ من الاجسـام الشفافة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ـــــــو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26028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81360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- عظام الصدر تسمى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3300"/>
                </a:solidFill>
                <a:latin typeface="Arial"/>
              </a:rPr>
              <a:t>الضلــــو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4360" y="765000"/>
            <a:ext cx="4248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مسابقة ملتقى الضا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0509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6:22:47Z</dcterms:created>
  <dc:creator>AAAAAA</dc:creator>
  <dc:description/>
  <dc:language>en-US</dc:language>
  <cp:lastModifiedBy>pcw_mos_24-11-07</cp:lastModifiedBy>
  <dcterms:modified xsi:type="dcterms:W3CDTF">2009-02-09T16:16:33Z</dcterms:modified>
  <cp:revision>4</cp:revision>
  <dc:subject/>
  <dc:title>1- هو بخار الماء الكثيف  و يغشى الأرض كالدخان ؟ </dc:title>
</cp:coreProperties>
</file>